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9B55-317B-4D21-906D-44CA4B361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356C-DC32-4CF8-9454-D5BBFB3A1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93B2-CCCF-4E89-85D1-85CC62321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E42A-83D9-461B-95DC-6CB96BA51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27171-1E85-4B41-878E-DB8088F24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BF92B-C827-4F41-8AAF-9E5D04131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D82A7-AFC4-4F9B-8206-80164B127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5DB16-8598-4B48-9998-917F98FBE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FBE5F-77C6-4F22-B12A-065A67F15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9A82D-FA55-4BF1-8DFB-8BBEB21A5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DF324-32F4-4D5B-9F61-368FDC59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C0BD-2BB0-4F9A-A7AC-F139216DE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74559-D83A-4222-A5FF-256D8BF5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DE442-9ABC-4D5F-8795-821AFB4A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A65DD-B11F-4F1A-9D08-D5B38563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50712-10BB-49B4-966A-78B319B15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74501-EF61-4087-A076-CB7DE7D3B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AA46-711B-48EF-AEFD-FF6699935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7828-8DDD-4A38-AAD7-6F5879661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6CC7-BC09-4D87-8B10-B0280D646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D98A-5EEE-48C9-AC84-B09C12498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C2DC-A137-4BF5-8E47-A8DAF329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FB55-C030-4C64-966C-0466DBD1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D5E9-E73B-4AEC-96FF-4FA85DE6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3F9A-15F9-40E3-848A-C76D60161CA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B0740-0021-4CA2-A00C-5BB0D95DB82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Did You Know . . 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Sometimes size </a:t>
            </a:r>
            <a:r>
              <a:rPr b="1" i="1" lang="en-US" sz="4800" spc="-1" strike="noStrike">
                <a:solidFill>
                  <a:srgbClr val="b2b2b2"/>
                </a:solidFill>
                <a:latin typeface="Arial"/>
              </a:rPr>
              <a:t>does</a:t>
            </a: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 matter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If you’re one in a million in China . . 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There are 1,300 people just like you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In India, there are 1,100 people just like you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 25% of the population in China with the highest IQ’s . . 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Is greater than the total population of North America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In India, it’s the top 28%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ranslation for teachers: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y have more honors kids than we have kids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Did you know . . 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hina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will soon become the number one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nglish speaking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country in the world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2514600"/>
            <a:ext cx="88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38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re are over 3000 students in 28 schools province-wide who have been issued notebook computers.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1872720"/>
            <a:ext cx="8991720" cy="22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f you took every single job in North America today and shipped it to China . . 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China would still have a labor surplus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During the course of this 8 minute presentation . . 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09480" y="1066680"/>
            <a:ext cx="76964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5 babies will be born in Canad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60 babies will be born in the U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244 babies will be born in Chi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351 babies will be born in Ind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fade thruBlk="true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6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 Department of Labor estimates that today’s learner will have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10-14 jobs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…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…</a:t>
            </a: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by age </a:t>
            </a: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38</a:t>
            </a: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According to the </a:t>
            </a:r>
            <a:br>
              <a:rPr sz="4800"/>
            </a:b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Department of Labor . . 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1 out of 2 workers today is working for a company they have been employed by for less than one year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6000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2 out of 3 are working for a company they have worked for for less than five years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According to former U.S. Secretary of Education     Richard Riley . . 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All of them were purchased using public funds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The </a:t>
            </a: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top 10</a:t>
            </a: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 in-demand jobs in 2010 didn’t exist in 2005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We are currently preparing students for jobs that don’t yet exist . . 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Using technologies that haven’t been invented . . 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n order to solve problems we don’t even know are problems yet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Name this country . . 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04920" y="609480"/>
            <a:ext cx="914400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Richest in the Worl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Largest Milit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Center of world business and fin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Strongest education syst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World center of innovation and inven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Currency the world standard of val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Highest standard of liv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7000">
    <p:fade thruBlk="true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6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7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England</a:t>
            </a: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In 1900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Did you know . . 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U.S. is 20</a:t>
            </a:r>
            <a:r>
              <a:rPr b="1" lang="en-US" sz="4400" spc="-1" strike="noStrike" baseline="30000">
                <a:solidFill>
                  <a:srgbClr val="ffcc66"/>
                </a:solidFill>
                <a:latin typeface="Arial"/>
              </a:rPr>
              <a:t>th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in the world in broadband Internet penetration.</a:t>
            </a:r>
            <a:br>
              <a:rPr sz="4400"/>
            </a:br>
            <a:br>
              <a:rPr sz="4400"/>
            </a:br>
            <a:r>
              <a:rPr b="1" i="1" lang="en-US" sz="3600" spc="-1" strike="noStrike">
                <a:solidFill>
                  <a:srgbClr val="b2b2b2"/>
                </a:solidFill>
                <a:latin typeface="Arial"/>
              </a:rPr>
              <a:t>(Luxembourg just passed them.)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0"/>
            <a:ext cx="8763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re are over 500 new LCD projectors in New Brunswick schools this year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n 2002 alone Nintendo invested more than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$140 million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in research and development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 Canadian and U.S. Federal Governments together spent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ess than half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that much on Research and Innovation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1 out of every 8 couples married in Canada last year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met online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re are over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106 million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registered users of MySpace.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(June 2006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160" y="2286000"/>
            <a:ext cx="80010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f My Space were a country, it would be the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11</a:t>
            </a:r>
            <a:r>
              <a:rPr b="1" lang="en-US" sz="4400" spc="-1" strike="noStrike" baseline="30000">
                <a:solidFill>
                  <a:srgbClr val="ffcc66"/>
                </a:solidFill>
                <a:latin typeface="Arial"/>
              </a:rPr>
              <a:t>th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 largest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in the world, between Japan and Mexico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Did you know . . 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We are living in </a:t>
            </a:r>
            <a:r>
              <a:rPr b="1" i="1" lang="en-US" sz="4800" spc="-1" strike="noStrike">
                <a:solidFill>
                  <a:srgbClr val="ffcc66"/>
                </a:solidFill>
                <a:latin typeface="Arial"/>
              </a:rPr>
              <a:t>exponential</a:t>
            </a: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 times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re are over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2.7 billion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searches performed on Google each month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o whom were these questions addressed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B.G.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?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(Before Google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 number of text messages sent and received every day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xceeds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the population of the planet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6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848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They were purchased  with public funds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re are about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540,000 words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in the English language . . 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About </a:t>
            </a: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5 times</a:t>
            </a: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 as many as during Shakespeare’s time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More than </a:t>
            </a: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3,000 new books</a:t>
            </a: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 are published . . 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Daily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It’s estimated that a </a:t>
            </a: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week</a:t>
            </a: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’s worth of New York Times . . 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1828800"/>
            <a:ext cx="7543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Contains more information than a person was likely to come across in a </a:t>
            </a: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lifetime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in the 18</a:t>
            </a:r>
            <a:r>
              <a:rPr b="1" lang="en-US" sz="4400" spc="-1" strike="noStrike" baseline="30000">
                <a:solidFill>
                  <a:srgbClr val="b2b2b2"/>
                </a:solidFill>
                <a:latin typeface="Arial"/>
              </a:rPr>
              <a:t>th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century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6000">
    <p:fade thruBlk="true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t’s estimated that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1.5 exabytes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(that’s 1.5 x 10</a:t>
            </a:r>
            <a:r>
              <a:rPr b="1" lang="en-US" sz="4400" spc="-1" strike="noStrike" baseline="30000">
                <a:solidFill>
                  <a:srgbClr val="b2b2b2"/>
                </a:solidFill>
                <a:latin typeface="Arial"/>
              </a:rPr>
              <a:t>18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) of unique new information will be generated worldwide this year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7000">
    <p:fade thruBlk="true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at’s estimated to be more than in the previous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5,000 years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1532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 amount of new technical information is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oubling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every 2 years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at means for a student starting a four-year technical or college degree . . 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Most schools in New Brunswick hava a wireless network running right now (802.11 a/b/g)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Half of what they learn in their first year of study will be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outdated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by their third year of study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It’s predicted to double every </a:t>
            </a: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72 hours</a:t>
            </a: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 by 2010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ird generation fiber optics has recently been separately tested by NEC and Alcatel . . 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at pushes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10 trillion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bits per second down one strand of fiber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at’s 1,900 CDs or 150 million simultaneous phone calls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very second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t’s currently tripling about every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6 months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and is expected to do so for at least the next 20 years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 fiber is already there, they’re just improving the switches on the ends. Which means the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marginal cost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of these improvements is effectively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$0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7000">
    <p:fade thruBlk="true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Predictions are that by 2008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e-paper will be cheaper than real paper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47 million</a:t>
            </a: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 laptops were shipped worldwide last year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$100 laptop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project is expecting to ship between 50 and 100 million laptops a year to children in underdeveloped countries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7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b2b2b2"/>
                </a:solidFill>
                <a:latin typeface="Arial"/>
              </a:rPr>
              <a:t>Over 7000 teachers have accepted the Department of Education’s offer and have received notebook computers!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Predictions are that by 2013 a supercomputer will be built that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xceeds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the computation capability of the Human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Brain . . 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6000">
    <p:fade thruBlk="true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By 2023, a $1,000 computer will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xceed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the capabilities of the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Human Brain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. . 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First grader Abby will be just 23 years old and beginning her (first) career . . 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7000">
    <p:fade thruBlk="true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And while technical predictions farther out than about 15 years are hard to do . . 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Predictions are that by 2049 a $1,000 computer will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xceed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the computational capabilities of the </a:t>
            </a: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human race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9000">
    <p:fade thruBlk="true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What does it all mean?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2b2b2"/>
                </a:solidFill>
                <a:latin typeface="Arial"/>
              </a:rPr>
              <a:t>Shift Happens.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7000">
    <p:fade thruBlk="true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2b2b2"/>
                </a:solidFill>
                <a:latin typeface="Arial"/>
              </a:rPr>
              <a:t>Now </a:t>
            </a:r>
            <a:r>
              <a:rPr b="1" i="1" lang="en-US" sz="6000" spc="-1" strike="noStrike">
                <a:solidFill>
                  <a:srgbClr val="ff0000"/>
                </a:solidFill>
                <a:latin typeface="Arial"/>
              </a:rPr>
              <a:t>you</a:t>
            </a:r>
            <a:r>
              <a:rPr b="1" lang="en-US" sz="6000" spc="-1" strike="noStrike">
                <a:solidFill>
                  <a:srgbClr val="b2b2b2"/>
                </a:solidFill>
                <a:latin typeface="Arial"/>
              </a:rPr>
              <a:t> know . . .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13000">
    <p:fade thruBlk="true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2b2b2"/>
                </a:solidFill>
                <a:latin typeface="Arial"/>
              </a:rPr>
              <a:t>Did </a:t>
            </a:r>
            <a:r>
              <a:rPr b="1" i="1" lang="en-US" sz="6000" spc="-1" strike="noStrike">
                <a:solidFill>
                  <a:srgbClr val="ff0000"/>
                </a:solidFill>
                <a:latin typeface="Arial"/>
              </a:rPr>
              <a:t>you</a:t>
            </a:r>
            <a:r>
              <a:rPr b="1" lang="en-US" sz="6000" spc="-1" strike="noStrike">
                <a:solidFill>
                  <a:srgbClr val="b2b2b2"/>
                </a:solidFill>
                <a:latin typeface="Arial"/>
              </a:rPr>
              <a:t> know?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13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b2b2b2"/>
                </a:solidFill>
                <a:latin typeface="Arial"/>
              </a:rPr>
              <a:t>Teachers can access their network files from ANY school in the province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Did you know . . 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0T03:49:02Z</dcterms:created>
  <dc:creator>ITS</dc:creator>
  <dc:description/>
  <dc:language>en-US</dc:language>
  <cp:lastModifiedBy>jeff.whipple</cp:lastModifiedBy>
  <dcterms:modified xsi:type="dcterms:W3CDTF">2007-03-11T23:34:48Z</dcterms:modified>
  <cp:revision>86</cp:revision>
  <dc:subject/>
  <dc:title>AHS has 249 new computers this fall. </dc:title>
</cp:coreProperties>
</file>